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2BB-5EDC-4106-9F99-6010C22E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2E2-B559-45CF-9A77-EEFB4884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FB5F-70D1-4302-8787-D7A7CE56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1D6F-07AF-4D16-94FD-FA4237C8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57CE-8943-4D84-8B9D-83B0F72D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587-1888-421C-AF45-03538F51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3F6E-A2D7-4599-B6A6-68D41699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6D8-EAA8-42AD-BFF6-7E68FF2D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33F-4907-42F6-84CB-D660083D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80B-ADC8-4E4D-803C-3702357B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28FA-BE60-40A6-85A8-CC3679E5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364-9281-42B0-AB2E-685CCBED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BF33-969F-4867-97BF-37680527C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image" Target="../media/image26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ere Do I Live?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am a tur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re do I live?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live in the fores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5820120"/>
            <a:ext cx="28958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5181120"/>
            <a:ext cx="4800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e all live in the fore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2141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867280" y="3733920"/>
            <a:ext cx="3276720" cy="3031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581280" cy="1855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0" y="262908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819520" y="1600200"/>
            <a:ext cx="33526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4100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 we do to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60400" y="228600"/>
            <a:ext cx="1428840" cy="1584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705720" y="198108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743200" y="228600"/>
            <a:ext cx="1893960" cy="2819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934320" y="312840"/>
            <a:ext cx="1523880" cy="1439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4876920" y="533520"/>
            <a:ext cx="1752480" cy="1447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80" y="1986120"/>
            <a:ext cx="1600200" cy="1052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4724280" y="2286000"/>
            <a:ext cx="1927440" cy="2362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457200" y="3124080"/>
            <a:ext cx="28954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am a wolf spi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ere do I l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6386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live in the dese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6386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55623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am a sidewinder sn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re do I l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4400" y="264960"/>
            <a:ext cx="70866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55623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live in the des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64960"/>
            <a:ext cx="70866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5410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am a whiptail liz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re do I l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6095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5410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live in the des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6095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4952880"/>
            <a:ext cx="83059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am a de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re do I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147600"/>
            <a:ext cx="792504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487656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am a cactus w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re do I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86728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live in the des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86728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am a kit f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re do I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56272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live in the des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56272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am a sand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re do I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63248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live in the des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63248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 all live in the des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2705040" cy="1943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867280" y="304920"/>
            <a:ext cx="2749680" cy="2608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276720" y="2514600"/>
            <a:ext cx="205740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460840" y="3016080"/>
            <a:ext cx="3378240" cy="1339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457200" y="304920"/>
            <a:ext cx="2743200" cy="2090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3276720" y="304920"/>
            <a:ext cx="2489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so do w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3965400"/>
            <a:ext cx="3352680" cy="2892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248520" y="2286000"/>
            <a:ext cx="2895480" cy="2317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809880" y="0"/>
            <a:ext cx="3362400" cy="2249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715000" y="4724280"/>
            <a:ext cx="2438280" cy="2133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0" y="380880"/>
            <a:ext cx="33526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am a fast tiger sh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re do I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90720" y="1440"/>
            <a:ext cx="693396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live in the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90720" y="1440"/>
            <a:ext cx="693396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live in the fo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233280"/>
            <a:ext cx="54864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am a big octop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do I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502320" cy="4343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523880" y="152280"/>
            <a:ext cx="6502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live in the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502320" cy="4343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523880" y="152280"/>
            <a:ext cx="6502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am a wh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re do I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47920" y="-190440"/>
            <a:ext cx="601956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live in the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47920" y="-190440"/>
            <a:ext cx="601956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am a ma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re do I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3248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live in the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3248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429000" y="5456160"/>
            <a:ext cx="41911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e all live in the oce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581280" y="0"/>
            <a:ext cx="4343400" cy="2857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5029200" y="2743200"/>
            <a:ext cx="4114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ere do you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153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am a big black b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re do I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638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153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live in the fore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638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am a corn sna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ere do I l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086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live in the for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086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am a cute racc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re do I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live in the fo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13:50:53Z</dcterms:created>
  <dc:creator>Tracy</dc:creator>
  <dc:description/>
  <dc:language>en-US</dc:language>
  <cp:lastModifiedBy>Tracy</cp:lastModifiedBy>
  <dcterms:modified xsi:type="dcterms:W3CDTF">2005-12-03T12:34:58Z</dcterms:modified>
  <cp:revision>33</cp:revision>
  <dc:subject/>
  <dc:title>Where I Live </dc:title>
</cp:coreProperties>
</file>